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58E-4345-430E-9626-F7444AE3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89D-2C0C-4023-8A5C-EA26F47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C18-1B28-49F5-81A3-80DA251E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37A-F8D3-4113-9D3D-29A82700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5A2-A969-4E94-8D94-EF00355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C18-1440-479D-8403-EC7FF9B3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FE6-2763-4EB6-B5DE-4572AE50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DA6-186E-485F-AC99-808D577B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F09-4C17-478E-8289-7E0E653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39F-787D-499F-A732-E5D6724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301-7CE7-4E0D-8A42-597D7C2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D7B-8DC0-4B08-9987-51D7EFB8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BF1D-BFE1-485D-B927-92E3BE54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0064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83000" cy="3502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676520"/>
            <a:ext cx="3500280" cy="3500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this industry uses the equivalent of nearly 100 million barrels of oil each year to produce their product (this figure does NOT include oil used for transportation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676520"/>
            <a:ext cx="3500280" cy="3500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hoenix, 1.5 million people are provided with this type of water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38080"/>
            <a:ext cx="3500640" cy="3500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6, this industry spent $162.8 million on advertising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838080"/>
            <a:ext cx="3500640" cy="3500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Recyclable, over 80% of the waste from this product goes to the landfill or is litt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51936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350064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53700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510000" cy="351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10000" cy="351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510000" cy="351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50064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05520" y="1371600"/>
            <a:ext cx="3500280" cy="358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ype of water is delivered to people in Phoenix through more than 6,790 miles of water ma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50028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50028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3500280" cy="35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519360" cy="35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3500280" cy="35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500640" cy="35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519720" cy="35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500280" cy="35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3500640" cy="35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500280" cy="3505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9:54:05Z</dcterms:created>
  <dc:creator>efrisk</dc:creator>
  <dc:description/>
  <dc:language>en-US</dc:language>
  <cp:lastModifiedBy>kboenker</cp:lastModifiedBy>
  <dcterms:modified xsi:type="dcterms:W3CDTF">2008-09-30T16:55:17Z</dcterms:modified>
  <cp:revision>7</cp:revision>
  <dc:subject/>
  <dc:title>Slide 1</dc:title>
</cp:coreProperties>
</file>